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6E5-6AAC-439D-B150-BE682E03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E983-8E66-4790-BE46-3EBDEC79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B0A-07A6-44B5-A3AE-CFF24E58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914-BF80-454B-B626-06AE63FF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BAB-0E9A-4482-B6A4-8819D6AD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AFD3-4FC0-4630-BF3E-1F1168CD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E22-DD24-438D-890E-90BB27DD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D11-6E4C-4DD9-A618-BFF1E061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FB3-8E36-4AEE-BCDD-3026CE5C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732-A918-437D-A3E9-856B71C4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513-379A-495F-AB82-0CB3F912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CC2-DFF0-4750-A711-898C216A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669D-E4A8-4817-8588-D5270ECD2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siness Expense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ler Bulldog Souvenir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66720" y="6091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eage by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2535480" cy="1727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05120" y="2514600"/>
            <a:ext cx="563868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1T05:13:21Z</dcterms:created>
  <dc:creator/>
  <dc:description/>
  <dc:language>en-US</dc:language>
  <cp:lastModifiedBy>Larry Metzelaar</cp:lastModifiedBy>
  <dcterms:modified xsi:type="dcterms:W3CDTF">2002-03-25T22:39:30Z</dcterms:modified>
  <cp:revision>5</cp:revision>
  <dc:subject/>
  <dc:title>Business Expense Analysis</dc:title>
</cp:coreProperties>
</file>